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ADB-1B9F-447C-92B0-A238542A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42E-B8F8-4CC9-A995-61C27764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E1C-D4C7-46DE-9628-FEC5AB16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1C2-AC31-455A-9C27-5DAA6AAE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EF34-2E24-4DFE-AB33-F3D4D36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24A2-D1EF-46F4-9817-69EB2F5A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7D62-10B5-4DCC-AD42-DE89D9F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6EDB-0110-4F2B-B9D8-0F442CEB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4089-4234-4FB5-968E-C135F0A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A88-291F-4267-B595-57E44527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C60B-5BFA-41F0-BEFD-E5A9271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FA9-CAB3-46C7-A15D-7BAF21E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006-6A5A-4A1F-8F6F-707C495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24E-E052-40BB-8B17-B5CCD00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5A9D-2550-40F1-A84E-9DBA519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DC8E-FCD9-4899-A51C-C81E0D4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104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2400" y="106668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104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2400" y="3534840"/>
            <a:ext cx="213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7801-AD23-4D65-B6AF-023090E2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DAD-1B78-4DF5-8236-008BBB97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A3B-6AFD-453B-9A53-B3F621B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AAF-B21D-4B28-97C0-A9537A8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95A-61D2-48A8-9AAD-1E1A426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B13-12DB-48DC-821E-1731567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6280" y="353484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1AA-5F8C-4ED8-AF1E-9ED2E4B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6280" y="1066680"/>
            <a:ext cx="3234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3534840"/>
            <a:ext cx="6629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A67-67D4-4CC9-84E2-5CC0567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E931-DBCA-4744-A01F-32CDF3029D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80E-5105-4E7C-A7C3-9100C5DC4E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2438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Basic Shape Patterns</a:t>
            </a:r>
            <a:endParaRPr b="0" lang="en-US" sz="44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5840" y="35809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ent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981080"/>
            <a:ext cx="3200400" cy="3429000"/>
          </a:xfrm>
          <a:prstGeom prst="pentagon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Hex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981080"/>
            <a:ext cx="3352680" cy="3505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Octagon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752480"/>
            <a:ext cx="3124440" cy="3733920"/>
          </a:xfrm>
          <a:prstGeom prst="octagon">
            <a:avLst>
              <a:gd name="adj" fmla="val 29287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hombu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676520"/>
            <a:ext cx="2286000" cy="3809880"/>
          </a:xfrm>
          <a:prstGeom prst="diamond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3- D Shape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ub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523880"/>
            <a:ext cx="3352680" cy="3353040"/>
          </a:xfrm>
          <a:prstGeom prst="cube">
            <a:avLst>
              <a:gd name="adj" fmla="val 25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ylinder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133720"/>
            <a:ext cx="2514600" cy="3657600"/>
          </a:xfrm>
          <a:prstGeom prst="can">
            <a:avLst>
              <a:gd name="adj" fmla="val 25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on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09880" y="1693800"/>
          <a:ext cx="332424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1693800"/>
                    <a:ext cx="332424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yram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981080"/>
            <a:ext cx="3429000" cy="327672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ectangle Sol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286000"/>
            <a:ext cx="4572000" cy="266688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Circ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447920"/>
            <a:ext cx="3886200" cy="388620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Oval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514600"/>
            <a:ext cx="4800600" cy="2895480"/>
          </a:xfrm>
          <a:prstGeom prst="ellipse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olygons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following shapes are all polygon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quar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447920"/>
            <a:ext cx="4114800" cy="411480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Rect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133720"/>
            <a:ext cx="5486400" cy="3124080"/>
          </a:xfrm>
          <a:prstGeom prst="rect">
            <a:avLst/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Triangle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219320"/>
            <a:ext cx="4419360" cy="3822480"/>
          </a:xfrm>
          <a:prstGeom prst="triangle">
            <a:avLst>
              <a:gd name="adj" fmla="val 50000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121932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480060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295280"/>
            <a:ext cx="2438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909"/>
                </a:solidFill>
                <a:latin typeface="Times New Roman"/>
              </a:rPr>
              <a:t>Vertex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- a point at which two sides meet.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e yellow areas are </a:t>
            </a:r>
            <a:r>
              <a:rPr b="0" lang="en-US" sz="2400" spc="-1" strike="noStrike">
                <a:solidFill>
                  <a:srgbClr val="ef1909"/>
                </a:solidFill>
                <a:latin typeface="Times New Roman"/>
              </a:rPr>
              <a:t>vertic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Trapezoid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1905120"/>
            <a:ext cx="2971800" cy="350496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770760 h 3504960"/>
              <a:gd name="textAreaBottom" fmla="*/ 273420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124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quadrilateral has one pair of parallel sid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590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Parallelogram</a:t>
            </a:r>
            <a:endParaRPr b="0" lang="en-US" sz="4000" spc="-1" strike="noStrike">
              <a:solidFill>
                <a:srgbClr val="ff0000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286000"/>
            <a:ext cx="3200400" cy="3048120"/>
          </a:xfrm>
          <a:prstGeom prst="parallelogram">
            <a:avLst>
              <a:gd name="adj" fmla="val 26249"/>
            </a:avLst>
          </a:prstGeom>
          <a:solidFill>
            <a:srgbClr val="ef190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743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14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 quadrilateral that has two pairs of parallel sides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7:06Z</dcterms:created>
  <dc:creator>prussell</dc:creator>
  <dc:description/>
  <dc:language>en-US</dc:language>
  <cp:lastModifiedBy>Property of</cp:lastModifiedBy>
  <dcterms:modified xsi:type="dcterms:W3CDTF">2009-01-13T16:21:53Z</dcterms:modified>
  <cp:revision>13</cp:revision>
  <dc:subject/>
  <dc:title>Basic Shape Patterns</dc:title>
</cp:coreProperties>
</file>